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FA42-A25A-4ED5-BC91-898B90B256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E2A-7E0F-489A-9C12-B03F895C9A3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8D5-3A8A-43AA-9849-AD1C0EB3280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1AB-9D3B-4A65-84EB-3515E88DED9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F8A-9C99-4F2B-B8FC-9DADF33E31C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56DB-22CE-415E-8CE7-1D59C3C1C8B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AD5-5971-4C7F-985C-A0ED0877F0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B35-3881-4007-9497-6A97A331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57F-153A-46A0-AF9F-41A2059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E28-7C10-43DC-B28D-5D2B9B6F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DAF-8B3B-41C2-A23C-682D8E30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07C-FFB0-493B-BA99-7DB51BC0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FBE-5A1D-4E9D-B09A-74CCCF9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BAA-884E-4BCC-B7C4-4266DBF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A40-FE1A-402A-B226-A2DBAD1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2B6-8785-4648-B91B-4C355C6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6C8-31D0-41AD-96CD-762C59E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FB3-5C0F-4167-BE23-F955FDA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6D7-D647-4788-9B36-FE2EB8A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06F-541F-45B2-A23C-B9C27D12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 are the deta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yclic &amp; Cyclic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al Kh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#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ynthetic organisms have the components of cyclic 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and plants have added components to the original system to make it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olcweb/cgi/pluginpop.cgi?it=swf::535::535::/sites/dl/free/0072437316/120072/bio13.swf::Photosynthetic%20Electron%20Transport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chlorophyll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ght energy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captured by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lingualbiology11a.blogspot.com/2011/01/photosynthesi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chlorophyll molecules and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ose electrons get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08/ch8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1-10-28T04:14:30Z</dcterms:modified>
  <cp:revision>87</cp:revision>
  <dc:subject/>
  <dc:title>Slide 1</dc:title>
</cp:coreProperties>
</file>